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A41-2E78-4CAC-B850-80A03669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838-C980-4ABC-8D1F-15D89F80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237-63F7-40F2-80EF-546AD6A0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841-EBBF-456E-916A-C993F478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0CC-CCF5-41C0-95BE-2440F73F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F9F-67FC-4718-8A1C-949842B2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656-3DB3-41E1-80E9-169ABA43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860-E9D7-4ED2-8362-FBD5DC99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DFC-BA49-4150-8F78-F976DE34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654-1396-4E49-86D9-F4DD7E03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E41-DDB5-4921-8D1F-F20ADA31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4D0-CA82-4791-BE6F-A708FC8E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50E0-4586-4605-9EBF-021CB9022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305280" y="16765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: a visual and graphic display that depicts the relationships between facts, terms, and or ide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2632320" cy="21859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" name="Picture 4" descr="Graphic organizer: Network Tree"/>
          <p:cNvPicPr/>
          <p:nvPr/>
        </p:nvPicPr>
        <p:blipFill>
          <a:blip r:embed="rId2"/>
          <a:stretch/>
        </p:blipFill>
        <p:spPr>
          <a:xfrm>
            <a:off x="6400800" y="4114800"/>
            <a:ext cx="2533680" cy="19940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44" name="Rectangle 8" descr=""/>
          <p:cNvPicPr/>
          <p:nvPr/>
        </p:nvPicPr>
        <p:blipFill>
          <a:blip r:embed="rId3"/>
          <a:stretch/>
        </p:blipFill>
        <p:spPr>
          <a:xfrm>
            <a:off x="798480" y="176040"/>
            <a:ext cx="7199280" cy="1135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2057400" y="3429000"/>
            <a:ext cx="396252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Graphic Organizers is a common way to help students generate visual representations of what they are learn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609480" y="52578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first brainstorming and using a graphic organizer, the students were able to write a research paper with ease on the cause and effect of  WW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C:\Documents and Settings\050bradfordv\Local Settings\Temporary Internet Files\Content.IE5\NDPFT0AI\MCj04298270000[1].wmf"/>
          <p:cNvPicPr/>
          <p:nvPr/>
        </p:nvPicPr>
        <p:blipFill>
          <a:blip r:embed="rId5"/>
          <a:stretch/>
        </p:blipFill>
        <p:spPr>
          <a:xfrm>
            <a:off x="304920" y="2895480"/>
            <a:ext cx="16002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8:47:33Z</dcterms:created>
  <dc:creator>RRISD</dc:creator>
  <dc:description/>
  <dc:language>en-US</dc:language>
  <cp:lastModifiedBy>RRISD</cp:lastModifiedBy>
  <dcterms:modified xsi:type="dcterms:W3CDTF">2009-03-12T18:48:36Z</dcterms:modified>
  <cp:revision>2</cp:revision>
  <dc:subject/>
  <dc:title>Definition:  Short for Picture Element, a pixel is a single point in a graphic image.  All digital images are composed of thousands or even millions of pixels. </dc:title>
</cp:coreProperties>
</file>